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8FC-6AEE-4321-A236-FAA51A65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11F-6999-4E59-AC1A-AB449DA9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376-FEE6-4700-BFA5-3B6DB11F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6D1-278A-4BDE-9A1F-C768EF12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AEC1E-6251-47E6-A730-F0C96B67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BEBAB-178E-4833-979F-9F88D79E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1EA85-C097-494B-A32F-67F03C02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45D0C-C991-49F8-8CAD-98C1AA0D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3C2F2-99EE-48A4-AAD4-A4B6DF53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C9BD5-9125-4FDA-B549-90811382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1CECF-7D02-4263-9437-557D06C8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728-51E6-413B-BAB4-B836A787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4BEBB-76EB-40E6-9838-A6EF04CC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E4600-12A0-49F5-B1CA-99281B9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DD9E3-6E23-413F-BA01-E3378E33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1365F-3377-4564-8789-C8302216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22613-D82D-4E0C-87F5-CDF0C0B3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506-888F-401E-86DD-83B20586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A29-8E45-4EA2-8F1F-4014543A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84F-3EDA-4770-AC0D-491B2311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1FE-CDFE-4B9D-A416-9F265F44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30C-FED5-40A6-9E49-EB02E423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FE7-0F9C-463A-873E-93E87149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01B-0BAB-4B43-9661-2EEA94C7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6183-3B9B-4217-B039-56E0AC8CF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9E3E-C9F8-404D-A3CD-7EDFC88A5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rt Story Un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How did the short story origina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It began through word of mouth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rst to be written dow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,000 years ago the Egyptians wrote “Tales of the Magicians” on . .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ter Greeks and Romans wrote epic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b.c. = Aesop’s Fa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pite all of this history, the short story did not become a serious literary genre until  . 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. . the 19th centu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authors that popularized the short story: Edgar Allen Poe, Guy de Maupassant, and Anton Checko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rn Short Story- more detailed, more realistic in plot, actually shows characters’ actions instead of just saying what they do, and creates a strong, vivid, moo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ed to novels: most contain setting, theme, plot, point of view, and characters. BUT have a tighter focus, and are structured to illuminate one particular event, revelation, development, or effec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13:36:45Z</dcterms:created>
  <dc:creator>generic</dc:creator>
  <dc:description/>
  <dc:language>en-US</dc:language>
  <cp:lastModifiedBy>generic</cp:lastModifiedBy>
  <dcterms:modified xsi:type="dcterms:W3CDTF">2009-09-04T13:46:47Z</dcterms:modified>
  <cp:revision>2</cp:revision>
  <dc:subject/>
  <dc:title>Short Story Unit</dc:title>
</cp:coreProperties>
</file>